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7E63-7E4F-44F1-A3D7-D8C567D01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A905-D9D3-4740-955B-E31F97E51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333C-DAE6-4DE6-9FB4-C57E85CCB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7FC1-40F9-43BA-9EF3-8A4B8FA7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519D-B516-4A99-8F08-904FFB4BE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CC54-2313-492B-954D-D30AA09FC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0A92-6E41-48FC-9E2D-A6812FE5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3933-7946-4DED-B6EE-2151A17B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7745-3E28-4F8A-9D45-82B45645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27FF-F85F-4675-913E-4D425FCB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762A-14A3-4A78-B91B-07E6303B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9041-AB87-4A13-82F6-E36D56A6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12B9-9068-41D5-9322-F1A36D7E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EFBD-B66C-434A-8F1F-5008E665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A791-537A-4DA6-BFF8-D21C46629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706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siel Lop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asiel Lopez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de Masiel Lop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asiel Lop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051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1981080" y="190512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toy emocionada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2860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i nombre es Masiel Lopez Tengo quince anos y vivo en Astoria Nueva York. Yo tengo una hermana y un hermano. Quieres saber como soy? Yo soy muy energetica y estudiosa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295280" y="5638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Rectangle 27" descr=""/>
          <p:cNvPicPr/>
          <p:nvPr/>
        </p:nvPicPr>
        <p:blipFill>
          <a:blip r:embed="rId1"/>
          <a:stretch/>
        </p:blipFill>
        <p:spPr>
          <a:xfrm>
            <a:off x="2736720" y="3529080"/>
            <a:ext cx="4078440" cy="1251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si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as tardes Maninder, si tu puedes comer mis chocolates </a:t>
            </a:r>
            <a:r>
              <a:rPr b="0" lang="es-ES_tradnl" sz="900" spc="-1" strike="noStrike">
                <a:solidFill>
                  <a:srgbClr val="343434"/>
                </a:solidFill>
                <a:latin typeface="Wingdings"/>
                <a:ea typeface="Wingdings"/>
              </a:rPr>
              <a:t>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ninder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 Masiel! ¿Me puede dar un chocolate por favor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asi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noches Maninder, y si yo quiero ir. Te voy mannan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nin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ia amiga! ¿Cómo esta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os dia! Estoy feliz anciosia para                                                                                                        Masie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2"/>
          <p:cNvSpPr/>
          <p:nvPr/>
        </p:nvSpPr>
        <p:spPr>
          <a:xfrm>
            <a:off x="762120" y="6400800"/>
            <a:ext cx="1839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4T14:58:08Z</dcterms:modified>
  <cp:revision>104</cp:revision>
  <dc:subject/>
  <dc:title>Profile</dc:title>
</cp:coreProperties>
</file>